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BA9-FD8E-4CF7-A6A2-30ABC78F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480-CCF2-41B0-9F9B-5BB7116D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D9C-779A-4F01-A1E5-212ADF80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015-19E1-4044-BCC1-56AD9C68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AC5-52C6-4BA6-984F-6B5E5C95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AB2-1D73-40AD-97BA-74707E52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025-7A3C-4CEE-AAA6-E6A6F71D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DC3-E2AC-40B7-AF75-774B6E5E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BAA-98B2-40B4-98F9-43D5E72E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473-F86B-4346-91D4-A25ECB03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320-EE23-4064-A3AB-4A960214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157-960D-4359-ADC3-E755514E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DFF7-2D76-426A-BF43-8DD6232EB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58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ben Berrio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erto Rico To Write It’s Own Constitution 195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ident during the time called Muñoz Marín passed a law called public law 6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law 600 let the residents of puerto rico to make their own constit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basically means that puerto rico is self-governing. (Its not controlled by outside for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6:47:36Z</dcterms:created>
  <dc:creator>Administrator</dc:creator>
  <dc:description/>
  <dc:language>en-US</dc:language>
  <cp:lastModifiedBy>Administrator</cp:lastModifiedBy>
  <dcterms:modified xsi:type="dcterms:W3CDTF">2011-01-19T17:06:44Z</dcterms:modified>
  <cp:revision>2</cp:revision>
  <dc:subject/>
  <dc:title>Puerto Rico To Write It’s Own Constitution 1952 </dc:title>
</cp:coreProperties>
</file>